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155600" y="1536840"/>
            <a:ext cx="13932000" cy="143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55600" y="5262480"/>
            <a:ext cx="139320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294400" y="47116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556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94400" y="5262480"/>
            <a:ext cx="679860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8662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576800" y="47116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556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58662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0576800" y="5262480"/>
            <a:ext cx="4485960" cy="50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764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0708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0840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00480" indent="-45828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5176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6512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14520" indent="-46908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7156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286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968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" descr=""/>
          <p:cNvPicPr/>
          <p:nvPr/>
        </p:nvPicPr>
        <p:blipFill>
          <a:blip r:embed="rId1"/>
          <a:stretch/>
        </p:blipFill>
        <p:spPr>
          <a:xfrm>
            <a:off x="2571840" y="2597040"/>
            <a:ext cx="4470480" cy="4470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"/>
          <p:cNvPicPr/>
          <p:nvPr/>
        </p:nvPicPr>
        <p:blipFill>
          <a:blip r:embed="rId2"/>
          <a:stretch/>
        </p:blipFill>
        <p:spPr>
          <a:xfrm>
            <a:off x="9201240" y="2597040"/>
            <a:ext cx="4470480" cy="447048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"/>
          <p:cNvSpPr/>
          <p:nvPr/>
        </p:nvSpPr>
        <p:spPr>
          <a:xfrm>
            <a:off x="2530440" y="742968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Civic Potent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9159840" y="742968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Civic Responsibil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Jacksonville’s kids are our city’s biggest assets – our future potential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children need supports to help them learn and grow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7426440" y="3708360"/>
            <a:ext cx="76071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The grid is patchy in some of our communities. In these areas, families can’t get what they need when they plug in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Resource Gr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1"/>
          <a:stretch/>
        </p:blipFill>
        <p:spPr>
          <a:xfrm>
            <a:off x="558720" y="2120760"/>
            <a:ext cx="539748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children need supports to help them learn and grow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7426440" y="3441600"/>
            <a:ext cx="7607160" cy="27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The System of Care Initiative is repairing our grid of resources to make sure that everyone in our city can plug in and get the resources they nee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Resource Gr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558720" y="2120760"/>
            <a:ext cx="539748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"/>
          <p:cNvPicPr/>
          <p:nvPr/>
        </p:nvPicPr>
        <p:blipFill>
          <a:blip r:embed="rId1"/>
          <a:srcRect l="10314" t="4966" r="10154" b="4764"/>
          <a:stretch/>
        </p:blipFill>
        <p:spPr>
          <a:xfrm>
            <a:off x="4616280" y="2666880"/>
            <a:ext cx="7035840" cy="63136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"/>
          <p:cNvSpPr/>
          <p:nvPr/>
        </p:nvSpPr>
        <p:spPr>
          <a:xfrm>
            <a:off x="1660680" y="412920"/>
            <a:ext cx="12941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goal is to make sure that no matter where children live, they have a fair chance to reach their potential. 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739800" y="3016080"/>
            <a:ext cx="147826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434"/>
                </a:solidFill>
                <a:latin typeface="Arial Bold"/>
                <a:ea typeface="Arial Bold"/>
              </a:rPr>
              <a:t>We know what it takes to help foster positive childhood development. However, Jacksonville’s children currently have the worst health outcomes of any large city in Florida, in large part because of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638280" y="5143680"/>
            <a:ext cx="147826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4916"/>
                </a:solidFill>
                <a:latin typeface="Arial Bold"/>
                <a:ea typeface="Arial Bold"/>
              </a:rPr>
              <a:t>COST:</a:t>
            </a:r>
            <a:r>
              <a:rPr b="0" lang="en-US" sz="3200" spc="-1" strike="noStrike">
                <a:solidFill>
                  <a:srgbClr val="343434"/>
                </a:solidFill>
                <a:latin typeface="Arial Bold"/>
                <a:ea typeface="Arial Bold"/>
              </a:rPr>
              <a:t> Medical care and other health services are too expensive for many families to afford </a:t>
            </a:r>
            <a:r>
              <a:rPr b="0" lang="en-US" sz="3200" spc="-1" strike="noStrike">
                <a:solidFill>
                  <a:srgbClr val="d94916"/>
                </a:solidFill>
                <a:latin typeface="Arial Bold"/>
                <a:ea typeface="Arial Bold"/>
              </a:rPr>
              <a:t>COORDINATION:</a:t>
            </a:r>
            <a:r>
              <a:rPr b="0" lang="en-US" sz="3200" spc="-1" strike="noStrike">
                <a:solidFill>
                  <a:srgbClr val="343434"/>
                </a:solidFill>
                <a:latin typeface="Arial Bold"/>
                <a:ea typeface="Arial Bold"/>
              </a:rPr>
              <a:t> Because Jacksonville is so spread out, services can be hard to reach and those services often don’t communicate with each other about what is best for kid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1660680" y="412920"/>
            <a:ext cx="12941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goal is to make sure that no matter where children live, they have a fair chance to reach their potential. 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"/>
          <p:cNvSpPr/>
          <p:nvPr/>
        </p:nvSpPr>
        <p:spPr>
          <a:xfrm>
            <a:off x="1254240" y="457200"/>
            <a:ext cx="1375416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The Jacksonville System of Care Initiative is working to address the issues of </a:t>
            </a:r>
            <a:r>
              <a:rPr b="0" lang="en-US" sz="4400" spc="-1" strike="noStrike">
                <a:solidFill>
                  <a:srgbClr val="343434"/>
                </a:solidFill>
                <a:latin typeface="Arial Bold Italic"/>
                <a:ea typeface="Arial Bold Italic"/>
              </a:rPr>
              <a:t>cost</a:t>
            </a: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 and </a:t>
            </a:r>
            <a:r>
              <a:rPr b="0" lang="en-US" sz="4400" spc="-1" strike="noStrike">
                <a:solidFill>
                  <a:srgbClr val="343434"/>
                </a:solidFill>
                <a:latin typeface="Arial Bold Italic"/>
                <a:ea typeface="Arial Bold Italic"/>
              </a:rPr>
              <a:t>coordination</a:t>
            </a: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 across our city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739800" y="4146480"/>
            <a:ext cx="147826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434"/>
                </a:solidFill>
                <a:latin typeface="Arial Bold"/>
                <a:ea typeface="Arial Bold"/>
              </a:rPr>
              <a:t>Through the System of Care Initiative, Jacksonville is building an accessible, coordinated system that improves outcomes for all of our children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2530440" y="770256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Fairness Across Pla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9159840" y="770256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Civic Potent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660680" y="412920"/>
            <a:ext cx="12941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goal is to make sure that no matter where children live, they have a fair chance to reach their potential. 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2521080" y="2819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"/>
          <p:cNvPicPr/>
          <p:nvPr/>
        </p:nvPicPr>
        <p:blipFill>
          <a:blip r:embed="rId2"/>
          <a:stretch/>
        </p:blipFill>
        <p:spPr>
          <a:xfrm>
            <a:off x="9163080" y="2819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7426440" y="3441600"/>
            <a:ext cx="7607160" cy="27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We can make sure that there is fairness across all parts of the city by identifying areas that are underserved and devoting resources to those locations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Fairness Across Pla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558720" y="2120760"/>
            <a:ext cx="5397480" cy="539748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3"/>
          <p:cNvSpPr/>
          <p:nvPr/>
        </p:nvSpPr>
        <p:spPr>
          <a:xfrm>
            <a:off x="1660680" y="412920"/>
            <a:ext cx="12941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goal is to make sure that no matter where children live, they have a fair chance to reach their potential. 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7426440" y="2908440"/>
            <a:ext cx="760716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When all of Jacksonville’s kids are able to grow up in a healthy environment with access to the resources they need, we can help to ensure that all children have a fair chance to reach their potential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Fairness Across Pla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558720" y="2120760"/>
            <a:ext cx="5397480" cy="539748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1660680" y="412920"/>
            <a:ext cx="12941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goal is to make sure that no matter where children live, they have a fair chance to reach their potential. 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"/>
          <p:cNvSpPr/>
          <p:nvPr/>
        </p:nvSpPr>
        <p:spPr>
          <a:xfrm>
            <a:off x="5832360" y="786132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Civic Potent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1660680" y="380880"/>
            <a:ext cx="1294128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When all of our children can reach their potential, Jacksonville can become the city we know we can be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5835600" y="2978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" descr=""/>
          <p:cNvPicPr/>
          <p:nvPr/>
        </p:nvPicPr>
        <p:blipFill>
          <a:blip r:embed="rId1"/>
          <a:stretch/>
        </p:blipFill>
        <p:spPr>
          <a:xfrm>
            <a:off x="558720" y="2120760"/>
            <a:ext cx="5397480" cy="539748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2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Jacksonville’s kids are our city’s biggest assets – our future potential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7426440" y="3441600"/>
            <a:ext cx="7810560" cy="27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By making sure that all of our kids have the best chance for a strong start in life, Jacksonville can reach its full potential and become the city we know we can b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Civic Potenti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Jacksonville’s kids are our city’s biggest assets – our future potential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Civic Responsibil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558720" y="2120760"/>
            <a:ext cx="5397480" cy="53974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4"/>
          <p:cNvSpPr/>
          <p:nvPr/>
        </p:nvSpPr>
        <p:spPr>
          <a:xfrm>
            <a:off x="7426440" y="3708360"/>
            <a:ext cx="76327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We have a shared responsibility to make sure that all children in Jacksonville have opportunities to learn, grow, and thriv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Jacksonville’s kids are our city’s biggest assets – our future potential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Civic Responsibil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558720" y="2120760"/>
            <a:ext cx="5397480" cy="539748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"/>
          <p:cNvSpPr/>
          <p:nvPr/>
        </p:nvSpPr>
        <p:spPr>
          <a:xfrm>
            <a:off x="7426440" y="3174840"/>
            <a:ext cx="76071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By working together and investing resources in young children and the programs that support them, we can build a city that makes good on our commitment to all children and famili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"/>
          <p:cNvSpPr/>
          <p:nvPr/>
        </p:nvSpPr>
        <p:spPr>
          <a:xfrm>
            <a:off x="2530440" y="742968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Solid Tracks for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59840" y="742968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Resource Gr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children need supports to help them learn and grow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2521080" y="2546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2"/>
          <a:stretch/>
        </p:blipFill>
        <p:spPr>
          <a:xfrm>
            <a:off x="9150480" y="2546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children need supports to help them learn and grow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7426440" y="2908440"/>
            <a:ext cx="760716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Train systems depend on good tracks to provide support and coordination. Just like trains, our children need a system of tracks that get them where they need to go – things like early learning and recreation servic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558720" y="2133720"/>
            <a:ext cx="5397480" cy="53974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Solid Tracks for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children need supports to help them learn and grow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7426440" y="2908440"/>
            <a:ext cx="760716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Train tracks are made of many pieces, such as rails and anchors. Jacksonville’s System of Care Initiative is also built out of many parts – the contributions of many agencies, such as juvenile justice, healthcare, and housing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558720" y="2133720"/>
            <a:ext cx="5397480" cy="539748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4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Solid Tracks for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children need supports to help them learn and grow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7426440" y="3174840"/>
            <a:ext cx="76071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And just as trains rely on experts like engineers, services for our children are coordinated by a team of development experts who work to help children safely along their “journey.”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558720" y="2133720"/>
            <a:ext cx="5397480" cy="539748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4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Solid Tracks for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"/>
          <p:cNvSpPr/>
          <p:nvPr/>
        </p:nvSpPr>
        <p:spPr>
          <a:xfrm>
            <a:off x="1660680" y="317520"/>
            <a:ext cx="12941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434"/>
                </a:solidFill>
                <a:latin typeface="Arial Bold"/>
                <a:ea typeface="Arial Bold"/>
              </a:rPr>
              <a:t>Our children need supports to help them learn and grow.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7426440" y="2641680"/>
            <a:ext cx="760716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434"/>
                </a:solidFill>
                <a:latin typeface="Arial Bold"/>
                <a:ea typeface="Arial Bold"/>
              </a:rPr>
              <a:t>Children and families in Jacksonville are supported by a grid of resources – institutions like hospitals, schools, and parks. When children and families “plug in” to this grid, they get the resources they need to support healthy development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981000" y="7772400"/>
            <a:ext cx="45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767"/>
                </a:solidFill>
                <a:latin typeface="Arial Bold"/>
                <a:ea typeface="Arial Bold"/>
              </a:rPr>
              <a:t>Resource Gr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2" name="Picture 4" descr=""/>
          <p:cNvPicPr/>
          <p:nvPr/>
        </p:nvPicPr>
        <p:blipFill>
          <a:blip r:embed="rId1"/>
          <a:stretch/>
        </p:blipFill>
        <p:spPr>
          <a:xfrm>
            <a:off x="558720" y="2120760"/>
            <a:ext cx="5397480" cy="539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egun Adesina</cp:lastModifiedBy>
  <dcterms:modified xsi:type="dcterms:W3CDTF">2016-12-01T23:23:12Z</dcterms:modified>
  <cp:revision>1</cp:revision>
  <dc:subject/>
  <dc:title>PowerPoint Presentation</dc:title>
</cp:coreProperties>
</file>